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8A91-E26C-4615-9006-E14386D6D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C28-FBD2-42CC-89A7-0D5F7450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4A0-11B5-4E1A-9A11-7D40CD67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425-9679-49AC-88A0-33F0A34D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A072-7EAA-4492-BA1F-33A95A13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71A8-8640-4DA5-AE8C-AE032D4C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3473-4799-440A-825C-612DC433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8FC2-1F0B-4B32-8267-AE92B443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8779-D059-4C29-9380-E8F43EE8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9DCB-CC8F-4C96-8207-95311192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9BDA-7CF4-4CCF-A97B-A54E2413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3DB-F4A6-4A22-9C0B-FF853F72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1EDB-AF12-49A4-813E-A1D1F2942D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2209680"/>
            <a:ext cx="769608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ACĂ LUCREZI CORECT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33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EI AVEA O SURPRIZĂ PLĂCUTĂ 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33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380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XERSEAZĂ TABLA ÎNMULŢIRII 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19760" y="53341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88040" y="533412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7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55960" y="533412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24240" y="533412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6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3341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8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19760" y="42670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0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88040" y="4267080"/>
            <a:ext cx="14317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4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55960" y="42670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42670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19760" y="320040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3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88040" y="320040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55960" y="320040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24240" y="320040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4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320040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19760" y="21337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88040" y="213372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8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5960" y="213372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3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24240" y="213372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1337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19760" y="10666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88040" y="1066680"/>
            <a:ext cx="14317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55960" y="10666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24240" y="1066680"/>
            <a:ext cx="14317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10666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9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96840" y="2813040"/>
            <a:ext cx="833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96840" y="2813040"/>
            <a:ext cx="174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1932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ege  produsele numărului  7  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4267080"/>
            <a:ext cx="137160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00200" y="5486400"/>
            <a:ext cx="6858000" cy="838080"/>
          </a:xfrm>
          <a:prstGeom prst="rightArrow">
            <a:avLst>
              <a:gd name="adj1" fmla="val 50000"/>
              <a:gd name="adj2" fmla="val 204575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380880" y="2057400"/>
            <a:ext cx="8534520" cy="1523880"/>
          </a:xfrm>
          <a:custGeom>
            <a:avLst/>
            <a:gdLst>
              <a:gd name="textAreaLeft" fmla="*/ 98640 w 8534520"/>
              <a:gd name="textAreaRight" fmla="*/ 8435880 w 853452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120948" h="21600">
                <a:moveTo>
                  <a:pt x="0" y="0"/>
                </a:moveTo>
                <a:lnTo>
                  <a:pt x="120948" y="0"/>
                </a:lnTo>
                <a:lnTo>
                  <a:pt x="120948" y="21600"/>
                </a:lnTo>
                <a:lnTo>
                  <a:pt x="0" y="21600"/>
                </a:lnTo>
                <a:close/>
              </a:path>
              <a:path fill="lightenLess" w="120948" h="21600">
                <a:moveTo>
                  <a:pt x="0" y="0"/>
                </a:moveTo>
                <a:lnTo>
                  <a:pt x="120948" y="0"/>
                </a:lnTo>
                <a:lnTo>
                  <a:pt x="119548" y="1400"/>
                </a:lnTo>
                <a:lnTo>
                  <a:pt x="1400" y="1400"/>
                </a:lnTo>
                <a:close/>
              </a:path>
              <a:path fill="darken" w="120948" h="21600">
                <a:moveTo>
                  <a:pt x="120948" y="0"/>
                </a:moveTo>
                <a:lnTo>
                  <a:pt x="120948" y="21600"/>
                </a:lnTo>
                <a:lnTo>
                  <a:pt x="119548" y="20200"/>
                </a:lnTo>
                <a:lnTo>
                  <a:pt x="119548" y="1400"/>
                </a:lnTo>
                <a:close/>
              </a:path>
              <a:path fill="darkenLess" w="120948" h="21600">
                <a:moveTo>
                  <a:pt x="12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48" y="20200"/>
                </a:lnTo>
                <a:close/>
              </a:path>
              <a:path fill="lighten" w="12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0948" h="21600">
                <a:moveTo>
                  <a:pt x="53467" y="10800"/>
                </a:moveTo>
                <a:lnTo>
                  <a:pt x="67480" y="3794"/>
                </a:lnTo>
                <a:lnTo>
                  <a:pt x="67480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52480" y="5715000"/>
            <a:ext cx="6477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xerciţiul următor 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71600" y="380880"/>
            <a:ext cx="6781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Încearcă din nou 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719760" y="53341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55960" y="533412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7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53341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5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19760" y="42670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48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55960" y="42670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88040" y="320040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55960" y="320040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320040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19760" y="21337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4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5960" y="213372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3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24240" y="213372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2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88040" y="1066680"/>
            <a:ext cx="14317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3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5960" y="10666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066680"/>
            <a:ext cx="143352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1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6840" y="2813040"/>
            <a:ext cx="833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6840" y="2813040"/>
            <a:ext cx="174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4267080"/>
            <a:ext cx="137160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8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ege  produsele numărului  8  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00200" y="5486400"/>
            <a:ext cx="6858000" cy="838080"/>
          </a:xfrm>
          <a:prstGeom prst="rightArrow">
            <a:avLst>
              <a:gd name="adj1" fmla="val 50000"/>
              <a:gd name="adj2" fmla="val 204575"/>
            </a:avLst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380880" y="2057400"/>
            <a:ext cx="8534520" cy="1523880"/>
          </a:xfrm>
          <a:custGeom>
            <a:avLst/>
            <a:gdLst>
              <a:gd name="textAreaLeft" fmla="*/ 98640 w 8534520"/>
              <a:gd name="textAreaRight" fmla="*/ 8435880 w 853452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120948" h="21600">
                <a:moveTo>
                  <a:pt x="0" y="0"/>
                </a:moveTo>
                <a:lnTo>
                  <a:pt x="120948" y="0"/>
                </a:lnTo>
                <a:lnTo>
                  <a:pt x="120948" y="21600"/>
                </a:lnTo>
                <a:lnTo>
                  <a:pt x="0" y="21600"/>
                </a:lnTo>
                <a:close/>
              </a:path>
              <a:path fill="lightenLess" w="120948" h="21600">
                <a:moveTo>
                  <a:pt x="0" y="0"/>
                </a:moveTo>
                <a:lnTo>
                  <a:pt x="120948" y="0"/>
                </a:lnTo>
                <a:lnTo>
                  <a:pt x="119548" y="1400"/>
                </a:lnTo>
                <a:lnTo>
                  <a:pt x="1400" y="1400"/>
                </a:lnTo>
                <a:close/>
              </a:path>
              <a:path fill="darken" w="120948" h="21600">
                <a:moveTo>
                  <a:pt x="120948" y="0"/>
                </a:moveTo>
                <a:lnTo>
                  <a:pt x="120948" y="21600"/>
                </a:lnTo>
                <a:lnTo>
                  <a:pt x="119548" y="20200"/>
                </a:lnTo>
                <a:lnTo>
                  <a:pt x="119548" y="1400"/>
                </a:lnTo>
                <a:close/>
              </a:path>
              <a:path fill="darkenLess" w="120948" h="21600">
                <a:moveTo>
                  <a:pt x="120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48" y="20200"/>
                </a:lnTo>
                <a:close/>
              </a:path>
              <a:path fill="lighten" w="120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0948" h="21600">
                <a:moveTo>
                  <a:pt x="53467" y="10800"/>
                </a:moveTo>
                <a:lnTo>
                  <a:pt x="67480" y="3794"/>
                </a:lnTo>
                <a:lnTo>
                  <a:pt x="67480" y="17806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371600" y="380880"/>
            <a:ext cx="67816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Încearcă din nou 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752480" y="5715000"/>
            <a:ext cx="6477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xerciţiul următor 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19760" y="5334120"/>
            <a:ext cx="14335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5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5960" y="42670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2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88040" y="3200400"/>
            <a:ext cx="143172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1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5960" y="2133720"/>
            <a:ext cx="1432080" cy="1066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3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55960" y="1066680"/>
            <a:ext cx="143208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Arial"/>
              </a:rPr>
              <a:t>6 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6840" y="2813040"/>
            <a:ext cx="833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96840" y="2813040"/>
            <a:ext cx="1741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21337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242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59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8804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19760" y="1066680"/>
            <a:ext cx="0" cy="533412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320040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426708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5334120"/>
            <a:ext cx="7162560" cy="0"/>
          </a:xfrm>
          <a:prstGeom prst="line">
            <a:avLst/>
          </a:prstGeom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106668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153280" y="1066680"/>
            <a:ext cx="0" cy="533412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6400800"/>
            <a:ext cx="7162560" cy="0"/>
          </a:xfrm>
          <a:prstGeom prst="line">
            <a:avLst/>
          </a:prstGeom>
          <a:ln cap="sq"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2860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ege  produsele numărului  6  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1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6:18:41Z</dcterms:created>
  <dc:creator>sa</dc:creator>
  <dc:description/>
  <dc:language>en-US</dc:language>
  <cp:lastModifiedBy>sa</cp:lastModifiedBy>
  <dcterms:modified xsi:type="dcterms:W3CDTF">2008-11-17T18:13:29Z</dcterms:modified>
  <cp:revision>4</cp:revision>
  <dc:subject/>
  <dc:title>1. dia</dc:title>
</cp:coreProperties>
</file>